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dt" idx="2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ftr" idx="26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 type="sldNum" idx="27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6467-634E-4487-8AC3-B4DA5E55BF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4FD6-6C3B-4F7A-AEF9-748A1BBC69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3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EE1D-F3E1-4449-B457-3934466D4A4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5022-43BB-4893-BE1B-821803510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F4ED-68A1-4DC6-B3A8-E5546CFC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A9A0-D8B6-4548-84AB-99D6DBEC1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41B0-9A78-45C9-A1F4-A9BD2BBE0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996A-E734-4BB6-910B-70F893D4A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42B0-8B9E-415F-8560-CF556976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D386-55AC-4844-8E9B-8D257CA9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F947-F50C-4C6D-A1B5-EE121185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05F4-75F0-4C7E-9B29-8264BA51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F13C-4594-4C1D-A73F-ABE31CA3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991B-3EEB-40BD-AD71-BFFAFCDD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25A4-C40C-42D6-AC91-8A4B17E7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0963-DF09-4B3A-BB6A-71307AF8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C7AF-1E3A-4577-B456-0147926E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7A8F-8D9E-4DA8-9F2B-14159F7B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AE6E-87D0-4E9D-BCD9-52766FC5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9159-6E58-4D92-B67D-DDEE81923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7B2907-E5B1-49A9-BF98-D56AA6085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BD5942-CA18-4A3F-85FC-E4690DE4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78AF8D-22F8-41D5-8E41-0EADD8D5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88A87A-1D2D-44F7-A75A-8AB2B6E6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C61C33-3ADC-43B9-AB10-50AD38B9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A405-7455-4564-AA49-02FC7BE5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3B7D84-7636-45E7-852F-B5586406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E3E76D-A4A4-4D3F-BD9A-B02ED63D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056A26-212C-4868-81A3-5ADAE429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64B755-76C5-4291-BD11-D577DE45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DD99AA-638B-4AC2-B5F0-149625CF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AE4006-06C5-48D9-A982-25A3B377F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6004C7-A6E0-423C-86A3-64017C60D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C5A93-31B5-466A-94C0-B6E9F26E3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253CC-8984-40AA-8D11-3A7A6F6B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C664C-331B-45D2-80A7-3F14A61D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F125-63A2-4DBB-AD52-75A4793C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BA739-EE21-489E-92D0-E997CA2B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26E28-2734-4A53-9E0A-91A56630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C880B-90F8-4135-9B49-CF8A1AF9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9A7DA-ECC2-4F8D-8031-9DB721DD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6D7E2-1A56-407A-9B4A-21111059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42EA9-E90F-4407-ABDD-56F618F5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6C6E8-665F-49B7-81AD-B459D57F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A0A1F-78C2-4D32-A833-EC83F1199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26ED1-5ED2-4DB9-9D88-79FBD6366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9C50E4-19BC-41C7-B759-353046BD8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5D0A-7CC1-43E4-A58B-C0DD24C0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2B2B43-B688-4B63-9B2C-761B1D9C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7B430C-C9E5-4037-8741-8A80B237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B75DBB-1CD3-421A-86BB-0B164C45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E577EA-BBA2-4DA0-B8F0-4A293819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8D591B-3005-47A0-92F1-0FCD331B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E3143C-9FC5-4439-9D24-3C551E75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52A175-0A5C-445F-9410-64BF8FE3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076BF1-15B1-4A46-8F63-CC360385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4E9B01-3911-4C70-9F97-508139D6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4C031B-B646-4696-84EA-A8CD8024E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1EDC-0D94-42DF-AF49-23ECF2BD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FD245A-7146-47AF-BECD-E9CA50AB5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CC84F-0FB5-4BDC-80C3-0D80EC257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8761F-5780-49AA-8656-CA6158EF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852C7-8101-4568-B446-B64E99E3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6D43D-76C9-46E8-8440-7C587FB9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A5AF0-87C1-466C-98FC-BF314D84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128BB-6B6C-4FC2-993D-0AB45201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9C9DC-46D2-4C84-AD49-49DF6521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44801-60C8-45E5-B1F6-6673B678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4DEAA-1851-4D18-8625-71CEB3DE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3D30-5263-4E11-B834-814B41DB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56A84-F4D1-4D54-8184-8F8AC6D7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CBF29-FBC6-4C33-AF00-BF6FC108D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6BF09-F8DD-407C-85B1-B58E32036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4B068-B227-46C5-ADDF-4F76CA386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1CD7D-1143-41E9-85CE-F94EF667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6AED9-E41B-4E23-9F6C-DE8A9DDB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05C22-FAF1-4559-AABF-435375FA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F3638-49B4-4480-87FD-DDAC9D9E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8ADC3-E77D-4ADF-9F1C-F94E7C86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254EB-5BEF-4296-A75C-A84A78FF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D7BE-BCA4-41BE-81A7-2D06E7F8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0FC2C-5595-4951-8362-73A8664A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7C184-6283-4797-848E-96796DE7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03D5A-A898-4620-88BE-BDBC3821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07FD9-8B96-4D2F-AAE9-5950779FE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21F6E-4538-48EF-B31C-02C768E0A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162F38-4F87-4043-B781-64625A98E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3A8639-2C85-44B8-88F3-0C4A94E9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F34647-A3BD-4559-B6DC-889E9AB7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482738-C3A3-4974-9319-FD98D287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C4F0E0-2310-4FD6-87E2-275B1A7B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CE84-B9BA-4772-98CD-A43FCA68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774336-972B-43A4-8322-2900E6CD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913742-57CA-4B9A-93B9-EC72127F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4F666B-0613-44EA-B53A-0C8833BA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2707AE-2690-4B1B-8672-FDDA4926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300230-49EC-420A-BA17-F5310FFD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F9961C-8118-4C2F-B54A-3D21C5DC1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9FCFCD-9527-4E5F-A79F-C1A42BEEE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737F-4B09-4F91-90E4-8C4640F327E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58BA-405F-454E-B415-8929B7EC81C8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DE1E-314F-443A-A0CF-58837813B1F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93A9-0C2C-412E-8840-29F00DD4521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71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75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8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00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5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220B-2D63-4A4F-A5C0-F6CC43902A1A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49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2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53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6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7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78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3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6FD9-C11C-4E21-BB91-F41B5ECA87F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dt" idx="1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27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8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29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33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68F3-8BC5-4B4F-B4A9-3EC4C79B3FAE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246C-54A3-4CD9-B3CC-03CA71FF4B5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7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8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7424-4C1F-48A6-A603-4F7567815E5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3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7D1A-3FD2-4029-A501-6EFBD74DEEA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0" y="1946160"/>
            <a:ext cx="9144000" cy="436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Реализация проекта </a:t>
            </a:r>
            <a:br>
              <a:rPr sz="5000"/>
            </a:br>
            <a:r>
              <a:rPr b="1" lang="ru-RU" sz="5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о модернизации системы </a:t>
            </a:r>
            <a:br>
              <a:rPr sz="5000"/>
            </a:br>
            <a:r>
              <a:rPr b="1" lang="ru-RU" sz="5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общего образования </a:t>
            </a:r>
            <a:br>
              <a:rPr sz="5000"/>
            </a:br>
            <a:r>
              <a:rPr b="1" lang="ru-RU" sz="5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Матвеево-Курганского района </a:t>
            </a:r>
            <a:br>
              <a:rPr sz="5000"/>
            </a:br>
            <a:r>
              <a:rPr b="1" lang="ru-RU" sz="5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в 2011 году</a:t>
            </a:r>
            <a:br>
              <a:rPr sz="54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3"/>
          <p:cNvGrpSpPr/>
          <p:nvPr/>
        </p:nvGrpSpPr>
        <p:grpSpPr>
          <a:xfrm>
            <a:off x="407880" y="447840"/>
            <a:ext cx="540000" cy="772560"/>
            <a:chOff x="407880" y="447840"/>
            <a:chExt cx="540000" cy="772560"/>
          </a:xfrm>
        </p:grpSpPr>
        <p:sp>
          <p:nvSpPr>
            <p:cNvPr id="491" name="Oval 4"/>
            <p:cNvSpPr/>
            <p:nvPr/>
          </p:nvSpPr>
          <p:spPr>
            <a:xfrm>
              <a:off x="692280" y="447840"/>
              <a:ext cx="255600" cy="501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Oval 5"/>
            <p:cNvSpPr/>
            <p:nvPr/>
          </p:nvSpPr>
          <p:spPr>
            <a:xfrm>
              <a:off x="407880" y="876960"/>
              <a:ext cx="488160" cy="29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Oval 6"/>
            <p:cNvSpPr/>
            <p:nvPr/>
          </p:nvSpPr>
          <p:spPr>
            <a:xfrm>
              <a:off x="679680" y="751320"/>
              <a:ext cx="232560" cy="29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Oval 7"/>
            <p:cNvSpPr/>
            <p:nvPr/>
          </p:nvSpPr>
          <p:spPr>
            <a:xfrm>
              <a:off x="686880" y="929880"/>
              <a:ext cx="232560" cy="29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Oval 8"/>
            <p:cNvSpPr/>
            <p:nvPr/>
          </p:nvSpPr>
          <p:spPr>
            <a:xfrm>
              <a:off x="477360" y="903960"/>
              <a:ext cx="116280" cy="29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96" name="Picture 11" descr="D:\МАСЬ\ЗАРПЛАТА В ОУ\МОДЕРНИЗАЦИЯ\gerb.gif"/>
          <p:cNvPicPr/>
          <p:nvPr/>
        </p:nvPicPr>
        <p:blipFill>
          <a:blip r:embed="rId1"/>
          <a:stretch/>
        </p:blipFill>
        <p:spPr>
          <a:xfrm>
            <a:off x="3924360" y="260280"/>
            <a:ext cx="792000" cy="990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Заголовок 1"/>
          <p:cNvSpPr/>
          <p:nvPr/>
        </p:nvSpPr>
        <p:spPr>
          <a:xfrm>
            <a:off x="-108000" y="620640"/>
            <a:ext cx="9360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72"/>
                </a:solidFill>
                <a:latin typeface="Times New Roman"/>
                <a:ea typeface="Times New Roman"/>
              </a:rPr>
              <a:t>Механизм повышения заработной платы учителе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68000" y="1628280"/>
            <a:ext cx="8496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Должностные оклад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72"/>
                </a:solidFill>
                <a:latin typeface="Arial"/>
              </a:rPr>
              <a:t>- с</a:t>
            </a:r>
            <a:r>
              <a:rPr b="1" lang="ru-RU" sz="2600" spc="-1" strike="noStrike">
                <a:solidFill>
                  <a:srgbClr val="c00000"/>
                </a:solidFill>
                <a:latin typeface="Arial"/>
              </a:rPr>
              <a:t> 01.09.2011 </a:t>
            </a:r>
            <a:r>
              <a:rPr b="1" i="1" lang="ru-RU" sz="2600" spc="-1" strike="noStrike">
                <a:solidFill>
                  <a:srgbClr val="000072"/>
                </a:solidFill>
                <a:latin typeface="Arial"/>
              </a:rPr>
              <a:t>увеличение должностных окладов на</a:t>
            </a:r>
            <a:r>
              <a:rPr b="1" i="1" lang="ru-RU" sz="2600" spc="-1" strike="noStrike">
                <a:solidFill>
                  <a:srgbClr val="1818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c00000"/>
                </a:solidFill>
                <a:latin typeface="Arial"/>
              </a:rPr>
              <a:t>6,5 </a:t>
            </a:r>
            <a:r>
              <a:rPr b="1" i="1" lang="ru-RU" sz="2600" spc="-1" strike="noStrike">
                <a:solidFill>
                  <a:srgbClr val="c00000"/>
                </a:solidFill>
                <a:latin typeface="Arial"/>
              </a:rPr>
              <a:t>%</a:t>
            </a:r>
            <a:r>
              <a:rPr b="1" i="1" lang="ru-RU" sz="2600" spc="-1" strike="noStrike">
                <a:solidFill>
                  <a:srgbClr val="000072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Надбавка за результативность и качество по организации образовательного процес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72"/>
                </a:solidFill>
                <a:latin typeface="Arial"/>
              </a:rPr>
              <a:t>- размером не ограничен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72"/>
                </a:solidFill>
                <a:latin typeface="Arial"/>
              </a:rPr>
              <a:t>- выплачивается по результатам деятельност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72"/>
                </a:solidFill>
                <a:latin typeface="Arial"/>
              </a:rPr>
              <a:t>- на основании установленных критерие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72"/>
                </a:solidFill>
                <a:latin typeface="Arial"/>
              </a:rPr>
              <a:t>Ожидаемые результат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6836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2"/>
                </a:solidFill>
                <a:latin typeface="Arial"/>
              </a:rPr>
              <a:t>Повышение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з/п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72"/>
                </a:solidFill>
                <a:latin typeface="Arial"/>
              </a:rPr>
              <a:t>учителей до уровня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з/п </a:t>
            </a:r>
            <a:r>
              <a:rPr b="1" i="1" lang="ru-RU" sz="2800" spc="-1" strike="noStrike">
                <a:solidFill>
                  <a:srgbClr val="000072"/>
                </a:solidFill>
                <a:latin typeface="Arial"/>
              </a:rPr>
              <a:t>по экономике в Ростовской области 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I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 квартал 2011 года (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14 917,6 руб.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2"/>
                </a:solidFill>
                <a:latin typeface="Times New Roman"/>
                <a:ea typeface="Times New Roman"/>
              </a:rPr>
              <a:t>Поставка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одного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72"/>
                </a:solidFill>
                <a:latin typeface="Times New Roman"/>
                <a:ea typeface="Times New Roman"/>
              </a:rPr>
              <a:t>комплекта оборудования для кабинета начальных классов базов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01 </a:t>
            </a:r>
            <a:r>
              <a:rPr b="1" lang="ru-RU" sz="2800" spc="-1" strike="noStrike">
                <a:solidFill>
                  <a:srgbClr val="000072"/>
                </a:solidFill>
                <a:latin typeface="Times New Roman"/>
                <a:ea typeface="Times New Roman"/>
              </a:rPr>
              <a:t>компью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18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 </a:t>
            </a:r>
            <a:r>
              <a:rPr b="1" lang="ru-RU" sz="2800" spc="-1" strike="noStrike">
                <a:solidFill>
                  <a:srgbClr val="000072"/>
                </a:solidFill>
                <a:latin typeface="Times New Roman"/>
                <a:ea typeface="Times New Roman"/>
              </a:rPr>
              <a:t>школьных автобу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000072"/>
                </a:solidFill>
                <a:latin typeface="Arial"/>
              </a:rPr>
              <a:t>Ожидаемые результат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6836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51</a:t>
            </a:r>
            <a:r>
              <a:rPr b="1" lang="ru-RU" sz="3600" spc="-1" strike="noStrike">
                <a:solidFill>
                  <a:srgbClr val="000072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72"/>
                </a:solidFill>
                <a:latin typeface="Arial"/>
              </a:rPr>
              <a:t>учитель - повышение квалификации по ФГ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50</a:t>
            </a:r>
            <a:r>
              <a:rPr b="1" lang="ru-RU" sz="3600" spc="-1" strike="noStrike">
                <a:solidFill>
                  <a:srgbClr val="000072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72"/>
                </a:solidFill>
                <a:latin typeface="Arial"/>
              </a:rPr>
              <a:t>учителей - повышение квалификации по И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100 %</a:t>
            </a:r>
            <a:r>
              <a:rPr b="1" lang="ru-RU" sz="3600" spc="-1" strike="noStrike">
                <a:solidFill>
                  <a:srgbClr val="000072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72"/>
                </a:solidFill>
                <a:latin typeface="Arial"/>
              </a:rPr>
              <a:t>школ - широкополосный интерн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2"/>
                </a:solidFill>
                <a:latin typeface="Arial"/>
              </a:rPr>
              <a:t>Контроль реализации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268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облюдение сроков закупок и повышения з/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ринятие в муниципальную собственность оборудования и автобу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Мониторинг целевого и эффективного исполь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беспечение общественного обсуждения хода и результатов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4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267080" cy="2925720"/>
          </a:xfrm>
          <a:prstGeom prst="rect">
            <a:avLst/>
          </a:prstGeom>
          <a:ln w="0">
            <a:noFill/>
          </a:ln>
        </p:spPr>
      </p:pic>
      <p:grpSp>
        <p:nvGrpSpPr>
          <p:cNvPr id="498" name="Group 11"/>
          <p:cNvGrpSpPr/>
          <p:nvPr/>
        </p:nvGrpSpPr>
        <p:grpSpPr>
          <a:xfrm>
            <a:off x="4724280" y="347760"/>
            <a:ext cx="4419360" cy="5960520"/>
            <a:chOff x="4724280" y="347760"/>
            <a:chExt cx="4419360" cy="5960520"/>
          </a:xfrm>
        </p:grpSpPr>
        <p:pic>
          <p:nvPicPr>
            <p:cNvPr id="499" name="Picture 8" descr=""/>
            <p:cNvPicPr/>
            <p:nvPr/>
          </p:nvPicPr>
          <p:blipFill>
            <a:blip r:embed="rId2"/>
            <a:stretch/>
          </p:blipFill>
          <p:spPr>
            <a:xfrm>
              <a:off x="4724280" y="347760"/>
              <a:ext cx="4419360" cy="249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9" descr=""/>
            <p:cNvPicPr/>
            <p:nvPr/>
          </p:nvPicPr>
          <p:blipFill>
            <a:blip r:embed="rId3"/>
            <a:stretch/>
          </p:blipFill>
          <p:spPr>
            <a:xfrm>
              <a:off x="4724280" y="2761920"/>
              <a:ext cx="4419360" cy="152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Picture 10" descr=""/>
            <p:cNvPicPr/>
            <p:nvPr/>
          </p:nvPicPr>
          <p:blipFill>
            <a:blip r:embed="rId4"/>
            <a:stretch/>
          </p:blipFill>
          <p:spPr>
            <a:xfrm>
              <a:off x="4724280" y="4280760"/>
              <a:ext cx="4419360" cy="2027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2" name="Picture 12" descr=""/>
          <p:cNvPicPr/>
          <p:nvPr/>
        </p:nvPicPr>
        <p:blipFill>
          <a:blip r:embed="rId5"/>
          <a:stretch/>
        </p:blipFill>
        <p:spPr>
          <a:xfrm>
            <a:off x="228600" y="3429000"/>
            <a:ext cx="4267080" cy="302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84200" y="48528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72"/>
                </a:solidFill>
                <a:latin typeface="Times New Roman"/>
                <a:ea typeface="Times New Roman"/>
              </a:rPr>
              <a:t>Организационная</a:t>
            </a:r>
            <a:r>
              <a:rPr b="1" lang="ru-RU" sz="3600" spc="-1" strike="noStrike">
                <a:solidFill>
                  <a:srgbClr val="000072"/>
                </a:solidFill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000072"/>
                </a:solidFill>
                <a:latin typeface="Times New Roman"/>
                <a:ea typeface="Times New Roman"/>
              </a:rPr>
              <a:t>основа</a:t>
            </a:r>
            <a:r>
              <a:rPr b="1" lang="ru-RU" sz="3600" spc="-1" strike="noStrike">
                <a:solidFill>
                  <a:srgbClr val="000072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68360" y="134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оручение Председателя Правительства Российской Федерации В.В. Путина (протокол заседания Правительства Российской Федерации от 04.04.2011 № 11, пункт 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остановление Правительства РФ от 31.05.2011 №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436 «О порядке предоставления в 2011-2013 годах субсидий из федерального бюджета бюджетам субъектов Российской Федерации на модернизацию региональных систем общего образования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Распоряжение Правительства РФ от 21.06.2011 № 106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8002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72"/>
                </a:solidFill>
                <a:latin typeface="Times New Roman"/>
                <a:ea typeface="Times New Roman"/>
              </a:rPr>
              <a:t>Направления реализации проекта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179280" y="112500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90000"/>
                </a:solidFill>
                <a:latin typeface="Arial"/>
              </a:rPr>
              <a:t>Приобретение оборудова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90000"/>
                </a:solidFill>
                <a:latin typeface="Arial"/>
              </a:rPr>
              <a:t>Получение транспортных средств для перевозки обучающихся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90000"/>
                </a:solidFill>
                <a:latin typeface="Arial"/>
              </a:rPr>
              <a:t>Приобретение учебников и учебно-наглядных пособий для общеобразовательных учреждений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90000"/>
                </a:solidFill>
                <a:latin typeface="Arial"/>
              </a:rPr>
              <a:t>Развитие школьной инфраструктуры (мероприятия, направленные на энергосбережение, выполнение требований к санитарно-бытовым условиям и охране здоровья обучающихся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90000"/>
                </a:solidFill>
                <a:latin typeface="Arial"/>
              </a:rPr>
              <a:t>Повышение квалификации, профессиональная подготовка </a:t>
            </a:r>
            <a:br>
              <a:rPr sz="2100"/>
            </a:br>
            <a:r>
              <a:rPr b="1" lang="ru-RU" sz="2100" spc="-1" strike="noStrike">
                <a:solidFill>
                  <a:srgbClr val="990000"/>
                </a:solidFill>
                <a:latin typeface="Arial"/>
              </a:rPr>
              <a:t>и переподготовка руководителей общеобразовательных учреждений и учителе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90000"/>
                </a:solidFill>
                <a:latin typeface="Arial"/>
              </a:rPr>
              <a:t>Модернизация базовых общеобразовательных учреждений (увеличение пропускной способности и оплата интернет-трафика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2"/>
                </a:solidFill>
                <a:latin typeface="Arial"/>
              </a:rPr>
              <a:t>Финансирование в 2011 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24000" y="1279080"/>
            <a:ext cx="83628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227,286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72"/>
                </a:solidFill>
                <a:latin typeface="Arial"/>
              </a:rPr>
              <a:t>млн. руб., в т.ч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10,422</a:t>
            </a:r>
            <a:r>
              <a:rPr b="1" i="1" lang="ru-RU" sz="3600" spc="-1" strike="noStrike">
                <a:solidFill>
                  <a:srgbClr val="000072"/>
                </a:solidFill>
                <a:latin typeface="Arial"/>
              </a:rPr>
              <a:t> млн. руб. – федеральный бюдж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178,044</a:t>
            </a:r>
            <a:r>
              <a:rPr b="1" i="1" lang="ru-RU" sz="3600" spc="-1" strike="noStrike">
                <a:solidFill>
                  <a:srgbClr val="000072"/>
                </a:solidFill>
                <a:latin typeface="Arial"/>
              </a:rPr>
              <a:t> млн. руб.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72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72"/>
                </a:solidFill>
                <a:latin typeface="Arial"/>
              </a:rPr>
              <a:t>областной бюдж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38,820</a:t>
            </a:r>
            <a:r>
              <a:rPr b="1" i="1" lang="ru-RU" sz="3600" spc="-1" strike="noStrike">
                <a:solidFill>
                  <a:srgbClr val="000072"/>
                </a:solidFill>
                <a:latin typeface="Arial"/>
              </a:rPr>
              <a:t> млн. руб.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72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72"/>
                </a:solidFill>
                <a:latin typeface="Arial"/>
              </a:rPr>
              <a:t>местный бюдж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5" descr="C:\Documents and Settings\nout\Рабочий стол\РООА\images\komp.jpg"/>
          <p:cNvPicPr/>
          <p:nvPr/>
        </p:nvPicPr>
        <p:blipFill>
          <a:blip r:embed="rId1"/>
          <a:stretch/>
        </p:blipFill>
        <p:spPr>
          <a:xfrm>
            <a:off x="4929120" y="4286160"/>
            <a:ext cx="1500120" cy="18417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8" descr="C:\Documents and Settings\nout\Рабочий стол\РООА\images\avtobus.jpg"/>
          <p:cNvPicPr/>
          <p:nvPr/>
        </p:nvPicPr>
        <p:blipFill>
          <a:blip r:embed="rId2"/>
          <a:stretch/>
        </p:blipFill>
        <p:spPr>
          <a:xfrm>
            <a:off x="6715080" y="4857840"/>
            <a:ext cx="2060640" cy="154296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0" descr="C:\Documents and Settings\nout\Рабочий стол\РООА\images\doska.jpg"/>
          <p:cNvPicPr/>
          <p:nvPr/>
        </p:nvPicPr>
        <p:blipFill>
          <a:blip r:embed="rId3"/>
          <a:stretch/>
        </p:blipFill>
        <p:spPr>
          <a:xfrm>
            <a:off x="6429240" y="2714760"/>
            <a:ext cx="2260800" cy="1571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829152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2"/>
                </a:solidFill>
                <a:latin typeface="Times New Roman"/>
                <a:ea typeface="Times New Roman"/>
              </a:rPr>
              <a:t>Реализация Комплекса мер по модерн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105264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13,454 </a:t>
            </a:r>
            <a:r>
              <a:rPr b="1" i="1" lang="ru-RU" sz="3600" spc="-1" strike="noStrike">
                <a:solidFill>
                  <a:srgbClr val="000072"/>
                </a:solidFill>
                <a:latin typeface="Arial"/>
              </a:rPr>
              <a:t>млн. руб. –оборудование</a:t>
            </a:r>
            <a:r>
              <a:rPr b="1" i="1" lang="en-US" sz="3600" spc="-1" strike="noStrike">
                <a:solidFill>
                  <a:srgbClr val="000072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6,04 </a:t>
            </a:r>
            <a:r>
              <a:rPr b="1" i="1" lang="ru-RU" sz="3600" spc="-1" strike="noStrike">
                <a:solidFill>
                  <a:srgbClr val="000072"/>
                </a:solidFill>
                <a:latin typeface="Arial"/>
              </a:rPr>
              <a:t>млн. руб. –компьютер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9,06</a:t>
            </a:r>
            <a:r>
              <a:rPr b="1" i="1" lang="ru-RU" sz="3600" spc="-1" strike="noStrike">
                <a:solidFill>
                  <a:srgbClr val="000072"/>
                </a:solidFill>
                <a:latin typeface="Arial"/>
              </a:rPr>
              <a:t> млн. руб. –школьные автобус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2"/>
                </a:solidFill>
                <a:latin typeface="Times New Roman"/>
                <a:ea typeface="Times New Roman"/>
              </a:rPr>
              <a:t>Комплекс мер по модерн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462,2</a:t>
            </a:r>
            <a:r>
              <a:rPr b="1" i="1" lang="ru-RU" sz="3600" spc="-1" strike="noStrike">
                <a:solidFill>
                  <a:srgbClr val="000072"/>
                </a:solidFill>
                <a:latin typeface="Arial"/>
              </a:rPr>
              <a:t> тыс. руб. – повышение квалифик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852,7</a:t>
            </a:r>
            <a:r>
              <a:rPr b="1" i="1" lang="ru-RU" sz="3600" spc="-1" strike="noStrike">
                <a:solidFill>
                  <a:srgbClr val="000072"/>
                </a:solidFill>
                <a:latin typeface="Arial"/>
              </a:rPr>
              <a:t> тыс. руб. – широкополосный интерн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2"/>
                </a:solidFill>
                <a:latin typeface="Times New Roman"/>
                <a:ea typeface="Times New Roman"/>
              </a:rPr>
              <a:t>В рамках реализации проекта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68000" y="1413000"/>
            <a:ext cx="8496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01.09.2011</a:t>
            </a:r>
            <a:r>
              <a:rPr b="1" i="1" lang="ru-RU" sz="2800" spc="-1" strike="noStrike">
                <a:solidFill>
                  <a:srgbClr val="1818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72"/>
                </a:solidFill>
                <a:latin typeface="Arial"/>
              </a:rPr>
              <a:t>на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14,2 %</a:t>
            </a:r>
            <a:r>
              <a:rPr b="1" i="1" lang="ru-RU" sz="2800" spc="-1" strike="noStrike">
                <a:solidFill>
                  <a:srgbClr val="1818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72"/>
                </a:solidFill>
                <a:latin typeface="Arial"/>
              </a:rPr>
              <a:t>- повышен фонд оплаты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2"/>
                </a:solidFill>
                <a:latin typeface="Arial"/>
              </a:rPr>
              <a:t>в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1,079 раза </a:t>
            </a:r>
            <a:r>
              <a:rPr b="1" i="1" lang="ru-RU" sz="2800" spc="-1" strike="noStrike">
                <a:solidFill>
                  <a:srgbClr val="000072"/>
                </a:solidFill>
                <a:latin typeface="Arial"/>
              </a:rPr>
              <a:t>- увеличены должностные оклады с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01.06.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2"/>
                </a:solidFill>
                <a:latin typeface="Arial"/>
              </a:rPr>
              <a:t>на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23,2 %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72"/>
                </a:solidFill>
                <a:latin typeface="Arial"/>
              </a:rPr>
              <a:t>- для доведения до средней з/п по эконом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Заголовок 1"/>
          <p:cNvSpPr/>
          <p:nvPr/>
        </p:nvSpPr>
        <p:spPr>
          <a:xfrm>
            <a:off x="457200" y="601560"/>
            <a:ext cx="8229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72"/>
                </a:solidFill>
                <a:latin typeface="Times New Roman"/>
                <a:ea typeface="Times New Roman"/>
              </a:rPr>
              <a:t>Повышение заработной платы учителей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5" descr="D:\МАСЬ\ЗАРПЛАТА В ОУ\МОДЕРНИЗАЦИЯ\11.JPG"/>
          <p:cNvPicPr/>
          <p:nvPr/>
        </p:nvPicPr>
        <p:blipFill>
          <a:blip r:embed="rId1"/>
          <a:stretch/>
        </p:blipFill>
        <p:spPr>
          <a:xfrm>
            <a:off x="395280" y="1557360"/>
            <a:ext cx="8474040" cy="441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4:39:35Z</dcterms:created>
  <dc:creator>Соляник Светлана</dc:creator>
  <dc:description/>
  <dc:language>en-US</dc:language>
  <cp:lastModifiedBy>Гл</cp:lastModifiedBy>
  <cp:lastPrinted>2011-10-14T05:32:19Z</cp:lastPrinted>
  <dcterms:modified xsi:type="dcterms:W3CDTF">2012-10-03T12:09:44Z</dcterms:modified>
  <cp:revision>132</cp:revision>
  <dc:subject/>
  <dc:title>О развитии образовательного комплекса в сельских территориях Ростовской области</dc:title>
</cp:coreProperties>
</file>